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871254-41EA-44F5-9A5E-ADE0A8F0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2BBEEF-739A-4856-98D6-6FA13E106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54B7FE-B509-4CE5-A0E0-C1431659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1CA3FA-BB24-4669-821D-1A0551EB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1AB731-1C7D-4B4D-B4F8-D71E654D4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595BF5-1905-4CC3-9F28-9C88C23D8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350EDB-B7EC-4B3C-8EFF-26ECECDF2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CCA8AA-C0EE-4863-A66E-EC7C023F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B201DC-D814-4B7D-B03C-F15440F6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8694C8-3CF8-4BA5-B114-5A53FB78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D98B69-0376-41A3-9CE5-B9BB4881F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F7B718-7AB6-4C5D-A6B0-C9D20DB1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1FC44A-DCF8-432E-844E-8150BD4F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B76E2C-77C8-44C3-B70F-E9DD6225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74364A-6802-4ADF-B3B8-56378C7C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C43C3A-888F-4BEC-9673-3D6AC75D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305D67-A849-46C7-92C2-EB821199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7112D1-9C4B-4835-BA73-C368EDBE7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F4CB85-26FA-4DC1-B617-082CCDC0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E62-2673-4A31-8BBF-FACEA76E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AD4-78A4-4CB9-BA2C-FDD0D0B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1C2-BD1E-4D02-AF0C-C32DE3F1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D9F-9D0B-440D-8E4B-E3F399BD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BB5-870C-4D52-B266-F9FA97C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492-7A9C-4152-B8F6-87BA2087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E25-18E7-4366-ACC6-87BAEBEB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4D2-AE90-4A7D-A7E3-166A8EC6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D4A-E58B-427B-A2E6-47979ACA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77D-0AEB-48D3-93FF-C236CEA6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9B9-2E6E-4B8F-812D-B67D1519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F68-8C74-4E9F-A434-F35AE32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F17F-A99B-4A40-B961-040EEC20C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e4c"/>
                </a:solidFill>
                <a:latin typeface="Tahoma"/>
                <a:ea typeface="SimSun"/>
              </a:rPr>
              <a:t>GDR in Drup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  <a:ea typeface="SimSun"/>
              </a:rPr>
              <a:t>facilitating community building and efficient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WSU-logo.png"/>
          <p:cNvPicPr/>
          <p:nvPr/>
        </p:nvPicPr>
        <p:blipFill>
          <a:blip r:embed="rId1"/>
          <a:stretch/>
        </p:blipFill>
        <p:spPr>
          <a:xfrm>
            <a:off x="2819520" y="5010120"/>
            <a:ext cx="34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Creating a new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86480" cy="333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6276960" cy="3413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User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52600" y="1152360"/>
            <a:ext cx="7524720" cy="378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943280" y="2660760"/>
            <a:ext cx="6514920" cy="358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om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14479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gene for family Rosaceae and for genus of malus, prunus, fragaria, pyrus and rosa 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ST annotation includes unigene set, homology, SSRs, ORF, SNPs, unique oligo sets for unigene micro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CBI/Swiss-Prot/TremBL Rosaceae protei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38080" y="4419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ing Soon – Whole Genome Sequence of Peach, Strawberry and App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981080" y="5335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et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09480" y="13716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us (marker loci and MT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0 locus data available from marker/trait search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s and Genetic Diversit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 Rosaceae genetic maps in C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sm/diversity search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ally anchored peach physical and transcriptome 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ization data between probes (ESTs and genetic markers) and peach BA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evant to Rosaceae genetics and geno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GDRonlylogo.png"/>
          <p:cNvPicPr/>
          <p:nvPr/>
        </p:nvPicPr>
        <p:blipFill>
          <a:blip r:embed="rId1"/>
          <a:stretch/>
        </p:blipFill>
        <p:spPr>
          <a:xfrm>
            <a:off x="7391520" y="57150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3520" y="228600"/>
            <a:ext cx="5867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Access the data from</a:t>
            </a: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057400" y="2362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3581280" y="2362320"/>
            <a:ext cx="2210040" cy="838080"/>
          </a:xfrm>
          <a:prstGeom prst="line">
            <a:avLst/>
          </a:prstGeom>
          <a:ln w="28440">
            <a:solidFill>
              <a:srgbClr val="0e2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85800" y="25146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pecie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5867280" y="2971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project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4419720" y="30481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53600" cy="434880"/>
          </a:xfrm>
          <a:prstGeom prst="rect">
            <a:avLst/>
          </a:prstGeom>
          <a:ln w="0">
            <a:noFill/>
          </a:ln>
        </p:spPr>
      </p:pic>
      <p:sp>
        <p:nvSpPr>
          <p:cNvPr id="132" name="Oval 13"/>
          <p:cNvSpPr/>
          <p:nvPr/>
        </p:nvSpPr>
        <p:spPr>
          <a:xfrm>
            <a:off x="1752480" y="1676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2590920" y="1676520"/>
            <a:ext cx="838080" cy="6858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1876680" cy="150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1895760" cy="9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4"/>
          <a:stretch/>
        </p:blipFill>
        <p:spPr>
          <a:xfrm>
            <a:off x="6019920" y="3733920"/>
            <a:ext cx="1885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62520" y="3049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Or go directly t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H="1">
            <a:off x="1676520" y="1828800"/>
            <a:ext cx="2133360" cy="7621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809880" y="1828800"/>
            <a:ext cx="609840" cy="106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57200" y="22860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maps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8195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7543800" y="6095880"/>
            <a:ext cx="132408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22"/>
          <p:cNvSpPr/>
          <p:nvPr/>
        </p:nvSpPr>
        <p:spPr>
          <a:xfrm>
            <a:off x="5181480" y="1752480"/>
            <a:ext cx="685800" cy="685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715000" y="23623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ols 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 blast against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299880" y="2886120"/>
            <a:ext cx="210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3"/>
          <a:stretch/>
        </p:blipFill>
        <p:spPr>
          <a:xfrm>
            <a:off x="2749680" y="3448080"/>
            <a:ext cx="2158920" cy="196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62520" y="30492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7543800" y="5867280"/>
            <a:ext cx="1324080" cy="5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553600" cy="434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103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335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CMap (comparative map view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54680" cy="53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5800" y="533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Genetic, Physical, and Transcriptom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813640" cy="54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447660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4664160" y="3505320"/>
            <a:ext cx="447984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581280" y="609480"/>
            <a:ext cx="4191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search eng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323720" cy="5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09480" y="533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4c"/>
                </a:solidFill>
                <a:latin typeface="Tahoma"/>
              </a:rPr>
              <a:t>GDR (Genome Database for Rosacea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57200" y="1905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ngsuhChe"/>
              </a:rPr>
              <a:t>a web-based community database of Rosaceae genetics and genomics data and analysis tools facilitating utilization of the data among member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734920" y="53341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ww.rosacea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9201240" cy="570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3876840" y="1219320"/>
            <a:ext cx="526716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7480" y="228600"/>
            <a:ext cx="90565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13"/>
          <p:cNvGrpSpPr/>
          <p:nvPr/>
        </p:nvGrpSpPr>
        <p:grpSpPr>
          <a:xfrm>
            <a:off x="2971800" y="685800"/>
            <a:ext cx="5790960" cy="5625720"/>
            <a:chOff x="2971800" y="685800"/>
            <a:chExt cx="5790960" cy="5625720"/>
          </a:xfrm>
        </p:grpSpPr>
        <p:pic>
          <p:nvPicPr>
            <p:cNvPr id="168" name="Picture 11" descr=""/>
            <p:cNvPicPr/>
            <p:nvPr/>
          </p:nvPicPr>
          <p:blipFill>
            <a:blip r:embed="rId2"/>
            <a:stretch/>
          </p:blipFill>
          <p:spPr>
            <a:xfrm>
              <a:off x="2971800" y="685800"/>
              <a:ext cx="5790960" cy="30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"/>
            <p:cNvPicPr/>
            <p:nvPr/>
          </p:nvPicPr>
          <p:blipFill>
            <a:blip r:embed="rId3"/>
            <a:stretch/>
          </p:blipFill>
          <p:spPr>
            <a:xfrm>
              <a:off x="3049920" y="3742920"/>
              <a:ext cx="5529960" cy="256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2209680" y="2895480"/>
            <a:ext cx="454356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82160" cy="422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465120" y="380880"/>
            <a:ext cx="86788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72880" y="452520"/>
            <a:ext cx="8599680" cy="59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2030400" y="3857760"/>
            <a:ext cx="71136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10424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1042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4934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  <a:ea typeface="굴림"/>
              </a:rPr>
              <a:t>Rosaceae Communit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132408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090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Team – Dorrie Main, Sook Jung, Meg Staton, Randall Svancara, Taein Lee, Ping Zheng, Albert Ab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members: Anna Blenda, Stephen Ficklin, Christopher Jesud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saceae 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 Plant Geno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DA Specialty Crop Research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sit u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t Database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day 8-8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-10:30 am, 4-4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 C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 -11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0880" y="16002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R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jor objectives for the next gra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using Chado/Drupal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/tools currently available from G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ccess the data and tools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1468440"/>
            <a:ext cx="769644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receives funding from Sept 2009 to Aug 201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USDA Specialty Crop Research Initiative program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ree fruit Genome Database Resources (tfGDR) will expand GDR to include Citrus. 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genome sequence of peach in GBrowse (will go public in Apr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 and strawberry data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DR is implemented in Drup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site developed for RosBr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171880" y="609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DR New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762120" y="654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Major goals for the next 4 ye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1981080"/>
            <a:ext cx="8153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grat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le genome sequ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arge-scale phenotyping/genotyping data, 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reeding da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current GDR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o develop an infrastructure using chado and drupal (tripal) that is easy to develop, implement and maint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ffirm.net.au/images/puzzle-5-piece-small.jpg"/>
          <p:cNvPicPr/>
          <p:nvPr/>
        </p:nvPicPr>
        <p:blipFill>
          <a:blip r:embed="rId1"/>
          <a:stretch/>
        </p:blipFill>
        <p:spPr>
          <a:xfrm>
            <a:off x="457200" y="1063800"/>
            <a:ext cx="8086680" cy="5433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09480" y="1219320"/>
            <a:ext cx="236232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1447920"/>
            <a:ext cx="16765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2819520"/>
            <a:ext cx="221004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62520" y="2057400"/>
            <a:ext cx="10666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876920" y="4648320"/>
            <a:ext cx="3504960" cy="1600200"/>
          </a:xfrm>
          <a:prstGeom prst="rect">
            <a:avLst/>
          </a:prstGeom>
          <a:solidFill>
            <a:srgbClr val="004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172200" y="1600200"/>
            <a:ext cx="2133720" cy="1523880"/>
          </a:xfrm>
          <a:prstGeom prst="rect">
            <a:avLst/>
          </a:prstGeom>
          <a:solidFill>
            <a:srgbClr val="bf4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04920" y="1219320"/>
            <a:ext cx="2819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cleotide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STs, Unige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G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sical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criptome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ath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019920" y="1905120"/>
            <a:ext cx="2209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GERM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ulti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edigr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334120" y="5029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BR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3352680" y="1447920"/>
            <a:ext cx="22100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unctional 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henotyp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eno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it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71600" y="228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Data to be integrated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533520" y="4572000"/>
            <a:ext cx="3581280" cy="1752480"/>
            <a:chOff x="533520" y="4572000"/>
            <a:chExt cx="3581280" cy="1752480"/>
          </a:xfrm>
        </p:grpSpPr>
        <p:sp>
          <p:nvSpPr>
            <p:cNvPr id="78" name="Rectangle 4"/>
            <p:cNvSpPr/>
            <p:nvPr/>
          </p:nvSpPr>
          <p:spPr>
            <a:xfrm>
              <a:off x="533520" y="4572000"/>
              <a:ext cx="3276720" cy="1752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3048120" y="5943600"/>
              <a:ext cx="1066680" cy="3808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TextBox 12"/>
          <p:cNvSpPr/>
          <p:nvPr/>
        </p:nvSpPr>
        <p:spPr>
          <a:xfrm>
            <a:off x="533520" y="4724280"/>
            <a:ext cx="3276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Gen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MTL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QT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ker Lo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tic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036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914400" y="457200"/>
            <a:ext cx="760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Plan for Building an Efficient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371600" y="5029200"/>
            <a:ext cx="6535800" cy="1139760"/>
            <a:chOff x="1371600" y="5029200"/>
            <a:chExt cx="6535800" cy="1139760"/>
          </a:xfrm>
        </p:grpSpPr>
        <p:sp>
          <p:nvSpPr>
            <p:cNvPr id="84" name="Rectangle 104"/>
            <p:cNvSpPr/>
            <p:nvPr/>
          </p:nvSpPr>
          <p:spPr>
            <a:xfrm>
              <a:off x="1371600" y="5715000"/>
              <a:ext cx="653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ic Database schem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AutoShape 105"/>
            <p:cNvSpPr/>
            <p:nvPr/>
          </p:nvSpPr>
          <p:spPr>
            <a:xfrm>
              <a:off x="3962520" y="5029200"/>
              <a:ext cx="1295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ahoma"/>
                </a:rPr>
                <a:t>Chad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1295280" y="1828800"/>
            <a:ext cx="6732720" cy="1252080"/>
            <a:chOff x="1295280" y="1828800"/>
            <a:chExt cx="6732720" cy="1252080"/>
          </a:xfrm>
        </p:grpSpPr>
        <p:sp>
          <p:nvSpPr>
            <p:cNvPr id="87" name="Text Box 108"/>
            <p:cNvSpPr/>
            <p:nvPr/>
          </p:nvSpPr>
          <p:spPr>
            <a:xfrm>
              <a:off x="1295280" y="2438280"/>
              <a:ext cx="67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ent Management Syste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8" name="Picture 117" descr="drupal-logo"/>
            <p:cNvPicPr/>
            <p:nvPr/>
          </p:nvPicPr>
          <p:blipFill>
            <a:blip r:embed="rId1"/>
            <a:stretch/>
          </p:blipFill>
          <p:spPr>
            <a:xfrm>
              <a:off x="3886200" y="1828800"/>
              <a:ext cx="135396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22"/>
          <p:cNvGrpSpPr/>
          <p:nvPr/>
        </p:nvGrpSpPr>
        <p:grpSpPr>
          <a:xfrm>
            <a:off x="1371600" y="3048120"/>
            <a:ext cx="6993000" cy="1914120"/>
            <a:chOff x="1371600" y="3048120"/>
            <a:chExt cx="6993000" cy="1914120"/>
          </a:xfrm>
        </p:grpSpPr>
        <p:grpSp>
          <p:nvGrpSpPr>
            <p:cNvPr id="90" name="Group 19"/>
            <p:cNvGrpSpPr/>
            <p:nvPr/>
          </p:nvGrpSpPr>
          <p:grpSpPr>
            <a:xfrm>
              <a:off x="1371600" y="3505320"/>
              <a:ext cx="6993000" cy="1456920"/>
              <a:chOff x="1371600" y="3505320"/>
              <a:chExt cx="6993000" cy="1456920"/>
            </a:xfrm>
          </p:grpSpPr>
          <p:grpSp>
            <p:nvGrpSpPr>
              <p:cNvPr id="91" name="Group 15"/>
              <p:cNvGrpSpPr/>
              <p:nvPr/>
            </p:nvGrpSpPr>
            <p:grpSpPr>
              <a:xfrm>
                <a:off x="1371600" y="3505320"/>
                <a:ext cx="6993000" cy="978120"/>
                <a:chOff x="1371600" y="3505320"/>
                <a:chExt cx="6993000" cy="978120"/>
              </a:xfrm>
            </p:grpSpPr>
            <p:pic>
              <p:nvPicPr>
                <p:cNvPr id="92" name="Picture 106" descr="200px-TripalLogo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9880" y="3505320"/>
                  <a:ext cx="1363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112"/>
                <p:cNvSpPr/>
                <p:nvPr/>
              </p:nvSpPr>
              <p:spPr>
                <a:xfrm>
                  <a:off x="1371600" y="4115160"/>
                  <a:ext cx="699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rupal modules as web front-end for Ch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" name="Line 118"/>
              <p:cNvSpPr/>
              <p:nvPr/>
            </p:nvSpPr>
            <p:spPr>
              <a:xfrm flipV="1">
                <a:off x="4572000" y="457164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" name="Line 119"/>
            <p:cNvSpPr/>
            <p:nvPr/>
          </p:nvSpPr>
          <p:spPr>
            <a:xfrm flipV="1">
              <a:off x="4495680" y="304812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5943600" y="3352680"/>
            <a:ext cx="2438280" cy="885600"/>
            <a:chOff x="5943600" y="3352680"/>
            <a:chExt cx="2438280" cy="885600"/>
          </a:xfrm>
        </p:grpSpPr>
        <p:sp>
          <p:nvSpPr>
            <p:cNvPr id="97" name="Text Box 25"/>
            <p:cNvSpPr/>
            <p:nvPr/>
          </p:nvSpPr>
          <p:spPr>
            <a:xfrm>
              <a:off x="6095880" y="3504960"/>
              <a:ext cx="2133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mo by Stephen Fickli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 1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(Tue) 2:30 p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Callout 30"/>
            <p:cNvSpPr/>
            <p:nvPr/>
          </p:nvSpPr>
          <p:spPr>
            <a:xfrm>
              <a:off x="5943600" y="3352680"/>
              <a:ext cx="2438280" cy="762120"/>
            </a:xfrm>
            <a:prstGeom prst="wedgeEllipseCallout">
              <a:avLst>
                <a:gd name="adj1" fmla="val -77837"/>
                <a:gd name="adj2" fmla="val 20421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990720" y="380880"/>
            <a:ext cx="739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Advantages of using Drup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Database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use and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functionality for community building – forums, calendars, project pages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Open Source,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opular, robust, secure and mod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/Roles/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380880"/>
            <a:ext cx="8381880" cy="624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GDRonlylogo.png"/>
          <p:cNvPicPr/>
          <p:nvPr/>
        </p:nvPicPr>
        <p:blipFill>
          <a:blip r:embed="rId1"/>
          <a:stretch/>
        </p:blipFill>
        <p:spPr>
          <a:xfrm>
            <a:off x="7467480" y="6095880"/>
            <a:ext cx="1219320" cy="419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37339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Users – control your own page/si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You can create/edit pages and uploa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meetings/conference/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project/la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s editors for gene, QTL, breeding data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ccess private data securely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Editing a project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562800" cy="366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7238880" cy="3029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8:10:13Z</dcterms:created>
  <dc:creator>Dorrie Main</dc:creator>
  <dc:description/>
  <dc:language>en-US</dc:language>
  <cp:lastModifiedBy>Sook</cp:lastModifiedBy>
  <dcterms:modified xsi:type="dcterms:W3CDTF">2010-01-26T18:10:17Z</dcterms:modified>
  <cp:revision>300</cp:revision>
  <dc:subject/>
  <dc:title>Slide 1</dc:title>
</cp:coreProperties>
</file>